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998220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982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25760" cy="338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5652720" y="-360"/>
            <a:ext cx="4327560" cy="338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3290760" y="509760"/>
            <a:ext cx="3400560" cy="255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NPro-Medium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98280" y="3228840"/>
            <a:ext cx="7985160" cy="306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6457680"/>
            <a:ext cx="4325760" cy="338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5652720" y="6457680"/>
            <a:ext cx="4327560" cy="338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3532-B7E2-4105-88C2-452C39CC46D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656320" y="6461280"/>
            <a:ext cx="4325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E30CC5F-F587-4D50-9AB1-57042F779E51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90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330200" y="3230280"/>
            <a:ext cx="7321680" cy="30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656320" y="6461280"/>
            <a:ext cx="4325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FC993F6-F018-45C4-87C5-BB0196E91F84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90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330200" y="3230280"/>
            <a:ext cx="7321680" cy="30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656320" y="6461280"/>
            <a:ext cx="4325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2A336DDF-EBD9-4272-83BF-8ADCB403937B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90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330200" y="3230280"/>
            <a:ext cx="7321680" cy="30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90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98280" y="3228840"/>
            <a:ext cx="798516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5653080" y="6458040"/>
            <a:ext cx="4327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B7AC-95CA-4B87-AB7F-C9B8AF087BA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F37-D8FD-47D6-BD5E-E58197F3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E54-4C8A-48AA-AE19-8A65E769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7EC-9898-444C-A7DE-C2C4EB06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A00-0FA2-4068-8E36-2C950CCE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36B-AACB-4391-A856-DB506057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F67-8B8E-4A3B-87B5-F86ED26F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95C-1BC5-48FA-9467-0F7D5083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D1A-7EBF-4B44-8BCD-DC18D1E0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EA3-E801-4B4E-ADD2-0C6F594F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C11-DBFE-4AE3-A399-BDBAE42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2F1-216C-464B-8C1B-669425C2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CC0-7D7F-4DC0-9DFA-0C365AB8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NPro-Medium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FC98-6A25-496E-A83E-A58985717A6C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CD13-A0BE-4D2E-AE63-14DE11E7597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NPro-Medium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cdd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7 Rectángulo"/>
          <p:cNvSpPr/>
          <p:nvPr/>
        </p:nvSpPr>
        <p:spPr>
          <a:xfrm>
            <a:off x="8215200" y="0"/>
            <a:ext cx="928800" cy="68691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NPro-Medium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DINPro-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Pro-Medium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DINPro-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10 Conector recto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2 Marcador de número de diapositiva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7CCE-FA32-4139-8388-26657DEB295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6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0 CuadroTexto"/>
          <p:cNvSpPr/>
          <p:nvPr/>
        </p:nvSpPr>
        <p:spPr>
          <a:xfrm>
            <a:off x="1092960" y="335772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c0052"/>
                </a:solidFill>
                <a:latin typeface="Segoe UI"/>
                <a:ea typeface="Arial Unicode MS"/>
              </a:rPr>
              <a:t>Tipograf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7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8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Conector recto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10 Conector recto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5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2 Marcador de número de diapositiva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5181-B6AB-4295-9CDE-EAB7569011C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6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8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9 Conector recto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1 CuadroTexto"/>
          <p:cNvSpPr/>
          <p:nvPr/>
        </p:nvSpPr>
        <p:spPr>
          <a:xfrm>
            <a:off x="500040" y="785880"/>
            <a:ext cx="814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La tipografía es el tipo de fuente o letra que se utiliza al escribir cualquier tex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En Hermanas Hospitalarias podemos utilizar dos tipografías diferentes aunque bastante similares. Por favor, asegúrate de utilizar la tipografía que corresponde para cada tipo de aplic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14240" y="2000160"/>
          <a:ext cx="7715520" cy="3780000"/>
        </p:xfrm>
        <a:graphic>
          <a:graphicData uri="http://schemas.openxmlformats.org/drawingml/2006/table">
            <a:tbl>
              <a:tblPr/>
              <a:tblGrid>
                <a:gridCol w="3857760"/>
                <a:gridCol w="3857760"/>
              </a:tblGrid>
              <a:tr h="37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8c0052"/>
                          </a:solidFill>
                          <a:latin typeface="Arial"/>
                        </a:rPr>
                        <a:t>Tipografía Seo 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Segoe 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1234567890,.-”$%&amp;/() _!¡?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qwertyuiopasdfghjklçzxcvbnñ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QWERTYUIOPASDFGHJKLÇZXCVB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8c0052"/>
                          </a:solidFill>
                          <a:latin typeface="Arial"/>
                        </a:rPr>
                        <a:t>Tipografía D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7f7f7f"/>
                          </a:solidFill>
                          <a:latin typeface="DINPro-Light"/>
                          <a:ea typeface="Segoe UI"/>
                        </a:rPr>
                        <a:t>Din 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DINPro-Light"/>
                          <a:ea typeface="Segoe UI"/>
                        </a:rPr>
                        <a:t>1234567890,.-”$%&amp;/() _!¡?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DINPro-Light"/>
                          <a:ea typeface="Segoe UI"/>
                        </a:rPr>
                        <a:t>qwertyuiopasdfghjklçzxcvbnñ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DINPro-Light"/>
                          <a:ea typeface="Segoe UI"/>
                        </a:rPr>
                        <a:t>QWERTYUIOPASDFGHJKLÇZXCVB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7f7f7f"/>
                          </a:solidFill>
                          <a:latin typeface="DINPro-Medium"/>
                          <a:ea typeface="Arial Unicode MS"/>
                        </a:rPr>
                        <a:t>Din med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DINPro-Medium"/>
                          <a:ea typeface="Arial Unicode MS"/>
                        </a:rPr>
                        <a:t>1234567890,.-”$%&amp;/() _!¡?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DINPro-Medium"/>
                          <a:ea typeface="Arial Unicode MS"/>
                        </a:rPr>
                        <a:t>qwertyuiopasdfghjklçzxcvbnñ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DINPro-Medium"/>
                          <a:ea typeface="Arial Unicode MS"/>
                        </a:rPr>
                        <a:t>QWERTYUIOPASDFGHJKLÇZXCVB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7f7f7f"/>
                          </a:solidFill>
                          <a:latin typeface="DINPro-Bold"/>
                          <a:ea typeface="Arial Unicode MS"/>
                        </a:rPr>
                        <a:t>Din b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DINPro-Bold"/>
                          <a:ea typeface="Arial Unicode MS"/>
                        </a:rPr>
                        <a:t>1234567890,.-”$%&amp;/() _!¡?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DINPro-Bold"/>
                          <a:ea typeface="Arial Unicode MS"/>
                        </a:rPr>
                        <a:t>qwertyuiopasdfghjklçzxcvbnñ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DINPro-Bold"/>
                          <a:ea typeface="Arial Unicode MS"/>
                        </a:rPr>
                        <a:t>QWERTYUIOPASDFGHJKLÇZXCVB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10 Conector recto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5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2 Marcador de número de diapositiva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11EF-5F2E-4FE2-800E-ECCB15D2DB8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6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7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8 Conector recto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9 Conector recto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1 CuadroTexto"/>
          <p:cNvSpPr/>
          <p:nvPr/>
        </p:nvSpPr>
        <p:spPr>
          <a:xfrm>
            <a:off x="285840" y="300024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c0052"/>
                </a:solidFill>
                <a:latin typeface="Segoe UI"/>
                <a:ea typeface="Segoe UI"/>
              </a:rPr>
              <a:t>¿Cuándo utilizamos la tipografía Din light, Din medium y Din bo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3 CuadroTexto"/>
          <p:cNvSpPr/>
          <p:nvPr/>
        </p:nvSpPr>
        <p:spPr>
          <a:xfrm>
            <a:off x="428760" y="3402000"/>
            <a:ext cx="807228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Para todas las aplicaciones incluidas en los capítulos 2 (Papelería, Impresos y Publicaciones) y 3 (Rotulación y Señalética) del Manual de Identidad Visual Corporativa  a excepción de: presentaciones de Power Point, cartas y cualquier otro documento de Word o Excel, e-mail,  facturas, recibos, fax, notas de prensa, dosieres y comunicados internos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En general esta tipografía es la que deberán utilizar las imprentas y las empresas de diseño que se encargan de realizarnos nuestra papelería, impresos, folletos, revistas, rótulos, señalética y cualquier otra aplic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4 CuadroTexto"/>
          <p:cNvSpPr/>
          <p:nvPr/>
        </p:nvSpPr>
        <p:spPr>
          <a:xfrm>
            <a:off x="285840" y="113040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c0052"/>
                </a:solidFill>
                <a:latin typeface="Segoe UI"/>
                <a:ea typeface="Segoe UI"/>
              </a:rPr>
              <a:t>¿</a:t>
            </a:r>
            <a:r>
              <a:rPr b="1" lang="es-ES" sz="1800" spc="-1" strike="noStrike">
                <a:solidFill>
                  <a:srgbClr val="8c0052"/>
                </a:solidFill>
                <a:latin typeface="Segoe UI"/>
                <a:ea typeface="Segoe UI"/>
              </a:rPr>
              <a:t>Cuándo utilizamos la tipografía Segoe U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4 CuadroTexto"/>
          <p:cNvSpPr/>
          <p:nvPr/>
        </p:nvSpPr>
        <p:spPr>
          <a:xfrm>
            <a:off x="357120" y="1509840"/>
            <a:ext cx="8072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Siempre que realicemos presentaciones de Power Point, cartas y cualquier otro documento de Word o Excel, e-mail,  facturas, recibos, fax, notas de prensa, dosieres y comunicados internos . Esta tipografía está disponible en tu Office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9 CuadroTexto"/>
          <p:cNvSpPr/>
          <p:nvPr/>
        </p:nvSpPr>
        <p:spPr>
          <a:xfrm>
            <a:off x="857160" y="114300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c0052"/>
                </a:solidFill>
                <a:latin typeface="Segoe UI"/>
                <a:ea typeface="Segoe UI"/>
              </a:rPr>
              <a:t>¿Cómo instalo las fuentes en mi ordena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11 Grupo"/>
          <p:cNvGrpSpPr/>
          <p:nvPr/>
        </p:nvGrpSpPr>
        <p:grpSpPr>
          <a:xfrm>
            <a:off x="2357280" y="1969920"/>
            <a:ext cx="5429520" cy="722520"/>
            <a:chOff x="2357280" y="1969920"/>
            <a:chExt cx="5429520" cy="722520"/>
          </a:xfrm>
        </p:grpSpPr>
        <p:pic>
          <p:nvPicPr>
            <p:cNvPr id="157" name="Picture 2" descr=""/>
            <p:cNvPicPr/>
            <p:nvPr/>
          </p:nvPicPr>
          <p:blipFill>
            <a:blip r:embed="rId1"/>
            <a:stretch/>
          </p:blipFill>
          <p:spPr>
            <a:xfrm>
              <a:off x="5895000" y="1971360"/>
              <a:ext cx="189180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" descr=""/>
            <p:cNvPicPr/>
            <p:nvPr/>
          </p:nvPicPr>
          <p:blipFill>
            <a:blip r:embed="rId2"/>
            <a:stretch/>
          </p:blipFill>
          <p:spPr>
            <a:xfrm>
              <a:off x="2357280" y="1969920"/>
              <a:ext cx="3602880" cy="72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6 CuadroTexto"/>
          <p:cNvSpPr/>
          <p:nvPr/>
        </p:nvSpPr>
        <p:spPr>
          <a:xfrm>
            <a:off x="873000" y="1565280"/>
            <a:ext cx="719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 </a:t>
            </a:r>
            <a:r>
              <a:rPr b="1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Primer paso</a:t>
            </a: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: descarga en tu escritorio los siguientes arch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7 CuadroTexto"/>
          <p:cNvSpPr/>
          <p:nvPr/>
        </p:nvSpPr>
        <p:spPr>
          <a:xfrm>
            <a:off x="214200" y="2786040"/>
            <a:ext cx="7740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 </a:t>
            </a:r>
            <a:r>
              <a:rPr b="1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Segundo paso</a:t>
            </a: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: pincha en el icono de </a:t>
            </a:r>
            <a:r>
              <a:rPr b="1" lang="es-ES" sz="1400" spc="-1" strike="noStrike">
                <a:solidFill>
                  <a:srgbClr val="8c0052"/>
                </a:solidFill>
                <a:latin typeface="Segoe UI"/>
                <a:ea typeface="Segoe UI"/>
              </a:rPr>
              <a:t>“Inicio” </a:t>
            </a: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que encontrarás en la barra de tareas que aparece en la parte inferior izquierda de tu pantalla, posteriormente pincha en </a:t>
            </a:r>
            <a:r>
              <a:rPr b="1" lang="es-ES" sz="1400" spc="-1" strike="noStrike">
                <a:solidFill>
                  <a:srgbClr val="8c0052"/>
                </a:solidFill>
                <a:latin typeface="Segoe UI"/>
                <a:ea typeface="Segoe UI"/>
              </a:rPr>
              <a:t>“configuración” </a:t>
            </a: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para poder ir a </a:t>
            </a:r>
            <a:r>
              <a:rPr b="1" lang="es-ES" sz="1400" spc="-1" strike="noStrike">
                <a:solidFill>
                  <a:srgbClr val="8c0052"/>
                </a:solidFill>
                <a:latin typeface="Segoe UI"/>
                <a:ea typeface="Segoe UI"/>
              </a:rPr>
              <a:t>“panel de control” </a:t>
            </a:r>
            <a:r>
              <a:rPr b="1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donde encontrarás una carpeta con las </a:t>
            </a:r>
            <a:r>
              <a:rPr b="1" lang="es-ES" sz="1400" spc="-1" strike="noStrike">
                <a:solidFill>
                  <a:srgbClr val="8c0052"/>
                </a:solidFill>
                <a:latin typeface="Segoe UI"/>
                <a:ea typeface="Segoe UI"/>
              </a:rPr>
              <a:t>fuentes </a:t>
            </a: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Segoe UI"/>
              </a:rPr>
              <a:t>que ya tienes instaladas en tu ordenad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Segoe UI"/>
                <a:ea typeface="Arial Unicode MS"/>
              </a:rPr>
              <a:t>Copia y pega los archivos que has descargado en tu escritorio en esta carpeta y tendrás instaladas  las tipografías ofi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"/>
          <p:cNvPicPr/>
          <p:nvPr/>
        </p:nvPicPr>
        <p:blipFill>
          <a:blip r:embed="rId3"/>
          <a:stretch/>
        </p:blipFill>
        <p:spPr>
          <a:xfrm>
            <a:off x="1150920" y="4286160"/>
            <a:ext cx="2790720" cy="2340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"/>
          <p:cNvPicPr/>
          <p:nvPr/>
        </p:nvPicPr>
        <p:blipFill>
          <a:blip r:embed="rId4"/>
          <a:stretch/>
        </p:blipFill>
        <p:spPr>
          <a:xfrm>
            <a:off x="3900600" y="4465800"/>
            <a:ext cx="360036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5"/>
          <a:stretch/>
        </p:blipFill>
        <p:spPr>
          <a:xfrm>
            <a:off x="1143000" y="2000160"/>
            <a:ext cx="785880" cy="714600"/>
          </a:xfrm>
          <a:prstGeom prst="rect">
            <a:avLst/>
          </a:prstGeom>
          <a:ln w="0">
            <a:noFill/>
          </a:ln>
        </p:spPr>
      </p:pic>
      <p:sp>
        <p:nvSpPr>
          <p:cNvPr id="164" name="12 Rectángulo"/>
          <p:cNvSpPr/>
          <p:nvPr/>
        </p:nvSpPr>
        <p:spPr>
          <a:xfrm>
            <a:off x="2357280" y="2000160"/>
            <a:ext cx="5357880" cy="7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3 Elipse"/>
          <p:cNvSpPr/>
          <p:nvPr/>
        </p:nvSpPr>
        <p:spPr>
          <a:xfrm>
            <a:off x="2614680" y="5497560"/>
            <a:ext cx="1079280" cy="360360"/>
          </a:xfrm>
          <a:prstGeom prst="ellipse">
            <a:avLst/>
          </a:prstGeom>
          <a:noFill/>
          <a:ln w="25560">
            <a:solidFill>
              <a:srgbClr val="8c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4 Elipse"/>
          <p:cNvSpPr/>
          <p:nvPr/>
        </p:nvSpPr>
        <p:spPr>
          <a:xfrm>
            <a:off x="6135840" y="5192640"/>
            <a:ext cx="1079280" cy="360360"/>
          </a:xfrm>
          <a:prstGeom prst="ellipse">
            <a:avLst/>
          </a:prstGeom>
          <a:noFill/>
          <a:ln w="25560">
            <a:solidFill>
              <a:srgbClr val="8c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5 Rectángulo"/>
          <p:cNvSpPr/>
          <p:nvPr/>
        </p:nvSpPr>
        <p:spPr>
          <a:xfrm>
            <a:off x="1143000" y="2000160"/>
            <a:ext cx="792000" cy="7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4:25:41Z</dcterms:created>
  <dc:creator>BLC Comunicación</dc:creator>
  <dc:description/>
  <dc:language>en-US</dc:language>
  <cp:lastModifiedBy>BLC Comunicación</cp:lastModifiedBy>
  <dcterms:modified xsi:type="dcterms:W3CDTF">2011-02-11T09:19:40Z</dcterms:modified>
  <cp:revision>853</cp:revision>
  <dc:subject/>
  <dc:title>Diapositiva 1</dc:title>
</cp:coreProperties>
</file>